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B561-2AA8-43F0-BE23-65B67713DC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FE9D-BE58-4963-B418-6E8C930D3B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4066-AD5A-4267-92C1-0CF5F6F2A6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1FB-F850-4216-BD14-367E7004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CFF-F808-4E45-8C93-173B3D7B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2B1-3970-413E-8DD6-A89E4519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991-5715-4C3B-A514-887DA396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50C4-D68C-477A-A8CF-E6C53653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2C28-8280-40A8-8489-3268E74C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1C12-8E22-47D1-A5A2-4F6C1AA8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F70A-355D-4EDB-ABC4-2E360D1D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FD6D-10D3-4B1F-B0D6-4C79ABA4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29F7-6F6E-452E-89FF-5872F310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E75E-7AD9-42A6-BA53-037F517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724-2C18-46BC-903D-030E1E60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5A48-D602-45EB-8B34-3883F62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A6B5-5B74-4859-84E9-09C6C440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05FC-E3ED-4015-870C-63A03ECF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68C7-9AB7-481B-B270-D32C22B3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6780-14C3-4581-BC34-C12F8FA7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4E2-4F3D-49E4-8D6F-1CF8A693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A07-90E4-49EB-A815-AA638B61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2E2-B460-47E3-92E3-284687D0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DF9-0464-4C4C-B2A0-8DCFCEF7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078-24A4-498C-A863-1521D041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4C4-4134-4C54-8B04-C3AEC407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245-0793-408F-A8AC-0912FE7B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87ED-2F4A-4154-8DE2-B67CE571B9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4CAC-9C83-4F90-B575-F15354810F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-572040" y="285840"/>
            <a:ext cx="71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gency FB"/>
                <a:ea typeface="长城行书体繁"/>
              </a:rPr>
              <a:t>Happy Teacher’s Day </a:t>
            </a:r>
            <a:r>
              <a:rPr b="1" lang="zh-CN" sz="4800" spc="-1" strike="noStrike">
                <a:solidFill>
                  <a:srgbClr val="0070c0"/>
                </a:solidFill>
                <a:latin typeface="Agency FB"/>
                <a:ea typeface="长城行书体繁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978360" y="1643040"/>
            <a:ext cx="200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您像一支蜡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虽然细弱，但有一分热，发一分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照亮了别人，耗尽了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这无私的奉献，令人用志不忘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只因有您的谆谆教诲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人生路上才得以一次次凯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老师您辛苦了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47:01Z</dcterms:created>
  <dc:creator>微软用户</dc:creator>
  <dc:description>http://www.52ppt.com</dc:description>
  <cp:keywords>www.52ppt.com</cp:keywords>
  <dc:language>en-US</dc:language>
  <cp:lastModifiedBy>User</cp:lastModifiedBy>
  <dcterms:modified xsi:type="dcterms:W3CDTF">2017-04-22T01:40:5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